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0C3E-5DF4-4BE3-BD89-D6F173CA56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inforce ontology princi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is by its nature intertwined with CA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y GO by the process and its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O Ed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u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do not have cerebral corext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71C5-B2B6-4809-A874-9753FB0D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5652-2FDB-47FA-8465-C0D5577A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D5E-4173-4FA0-A67D-8397304BE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31A2-299B-43ED-BC8F-8BA79594A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5944-03E1-4E36-8B88-E644E13E4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F56C-877C-44BA-9670-3BB48996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7AF9-27DB-470A-9E09-A035E51B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C85B-CB1C-44A9-95FA-FD2F78A8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7876-C88E-4CA5-AEB9-AEE460C1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FA5B-8BCE-4933-BCAF-389406EC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0B6F-9D66-47BD-A433-B7921807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40C-A982-497F-8ED8-270DF29F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50A7D-6D52-4D44-A412-D57135662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Application of OBO Foundry Principles in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2590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hris Munga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Lawrence Berkeley Lab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CB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Consortium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both reference and application ontology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same artefact (i.e. file) is used for both ontology editing and data annota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s has worked reasonably well until n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e may encourage making a disti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lication views (aka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GO slim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urrently only used to present a very small subset of G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48600" indent="-189720">
              <a:spcBef>
                <a:spcPts val="601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sider wider use for extracting most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Relations in GO (current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part_of Y: all Xs are part_of some Y (for the entirety of the duration of the existence of the X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.g. nucleus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part_of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cell (all nuclei are always part_of a cell, not all cells have a nucleus as part)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for both continuants and process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no ordering for process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rt-of conforms to </a:t>
            </a:r>
            <a:r>
              <a:rPr b="0" lang="en-US" sz="2400" spc="-1" strike="noStrike">
                <a:solidFill>
                  <a:srgbClr val="ff0000"/>
                </a:solidFill>
                <a:latin typeface="Gill Sans"/>
              </a:rPr>
              <a:t>R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X is_a Y: all Xs are Ys (for the entirety of Xs existence)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but there are issues with is_a in GO: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incompletenes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3" marL="1343880" indent="-191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is a has issu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ot all GO types have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par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 a problem in MF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ixed in CC (July 2006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ing fixed in BP (Sept 2006: right now, here in Seattl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ill a contentious issue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completion requires new high-level types i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rceived as being too abstract by biologist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mple solution: application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move high level terms in annotation view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polyhierarch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s_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iamonds cause problem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angled DAGs, easy to make mistak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urce of problems typically due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multiple axes of class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due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composite ter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nus - differentia (aristotelian) definition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ka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cross-products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[Hill et al]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ways a single genu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6012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choose consistent axis of classific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ow classifier/reasoner to provide different views of ontolog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953680" y="4648320"/>
            <a:ext cx="316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 tangled hierarc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640" y="4572000"/>
            <a:ext cx="2503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proble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ixes (at le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two </a:t>
            </a: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ax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486400" y="457200"/>
            <a:ext cx="12952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55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1143000"/>
            <a:ext cx="14479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1752480"/>
            <a:ext cx="144756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438280"/>
            <a:ext cx="6094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657600"/>
            <a:ext cx="1828800" cy="8380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1840" y="457200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bio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metabo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43200" y="457200"/>
            <a:ext cx="175248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057400" y="1143000"/>
            <a:ext cx="76320" cy="45720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1828800"/>
            <a:ext cx="7632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-83880" y="4098960"/>
            <a:ext cx="3912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cyste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 family 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amino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00000"/>
                </a:solidFill>
                <a:latin typeface="Geneva"/>
              </a:rPr>
              <a:t>is_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Geneva"/>
              </a:rPr>
              <a:t>ser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562720" y="1143000"/>
            <a:ext cx="121896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1828800"/>
            <a:ext cx="0" cy="38088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276360" y="2438280"/>
            <a:ext cx="1066680" cy="533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solution: separate the ax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3352680"/>
            <a:ext cx="182880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18288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3429000"/>
            <a:ext cx="1828800" cy="37332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1676520"/>
            <a:ext cx="1851120" cy="9126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(ChEB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599840" y="3733560"/>
            <a:ext cx="1219320" cy="190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324480" y="3809520"/>
            <a:ext cx="129564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1447920" y="2209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7620120" y="22856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320" y="5486400"/>
            <a:ext cx="1826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compu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genus-different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99"/>
                </a:solidFill>
                <a:latin typeface="Gill Sans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752480" y="5943600"/>
            <a:ext cx="10670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ompute the subsumption DAG from the defin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5181480"/>
            <a:ext cx="3504960" cy="990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bio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yste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3124080"/>
            <a:ext cx="243828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ysteine metabolism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3048120"/>
            <a:ext cx="2457360" cy="6433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serine family amino acid biosynthesis (G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2286000" y="3580920"/>
            <a:ext cx="18288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572000" y="3657240"/>
            <a:ext cx="167652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286000" y="2133360"/>
            <a:ext cx="14479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105160" y="2209320"/>
            <a:ext cx="11430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53000" y="4419720"/>
            <a:ext cx="290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DA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uch as ann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 (MF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 (BP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 (CC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47640" y="141120"/>
            <a:ext cx="7848720" cy="65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Pre- and post- 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re-composed in ontology, prior to anno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tology editor creates term, with I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Use reasoners to classify the DAG automaticall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ferences to types can be post-composed (created on the fly) at annotation ti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term with ID is created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putationally,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it makes no differ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vided we adhere to the genus-differentia formalism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OBO Foundry practices and pre-composition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re-composition of terms in the ontology is good as it creates a map of biological reality, linking foundry ontologi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in reas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O Biological Process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OBO Cel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neuron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cone cell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 fate specific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T cel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homeostasi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Gill Sans"/>
              </a:rPr>
              <a:t>erythroc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granu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BO Cell is species-neutra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ability to effectively created computationally visible genus-differentia definitions is new to most OBO ontologi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on to be created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O (many terms now done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definitions referencing OBO-Cel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BO Disease definitions referencing FMA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ifficult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ChEBI (chemical entitie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-BP and anatomy (we need CARO!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current)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51080" y="6477120"/>
            <a:ext cx="136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is_a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not show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development in GO (future)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4648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4038480"/>
            <a:ext cx="152280" cy="152640"/>
          </a:xfrm>
          <a:prstGeom prst="upArrow">
            <a:avLst>
              <a:gd name="adj1" fmla="val 50000"/>
              <a:gd name="adj2" fmla="val 250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35053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25909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048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520" y="2209680"/>
            <a:ext cx="248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presumptive 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46400" y="274320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9720" y="3200400"/>
            <a:ext cx="123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ke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9440" y="3657600"/>
            <a:ext cx="117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r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1800" y="41911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1880" y="4876920"/>
            <a:ext cx="122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spinal c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6477120"/>
            <a:ext cx="152280" cy="152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0120" y="640080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ransformation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676520"/>
            <a:ext cx="0" cy="4190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67560" y="4343400"/>
            <a:ext cx="228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50600" y="373392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tub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1676160" y="441936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1676160" y="3962520"/>
            <a:ext cx="464796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2971800"/>
            <a:ext cx="233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8880" y="2286000"/>
            <a:ext cx="263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1599840" y="2971440"/>
            <a:ext cx="2438280" cy="1522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600200" y="2514600"/>
            <a:ext cx="4648320" cy="38088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133360" y="6553080"/>
            <a:ext cx="1066680" cy="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07440" y="6248520"/>
            <a:ext cx="130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has_particip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5440" y="56228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440" y="563868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95880" y="4038120"/>
            <a:ext cx="533520" cy="38124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943600" y="25909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86200" y="6248520"/>
            <a:ext cx="533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87880" y="63244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part_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81480" y="5638680"/>
            <a:ext cx="381024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neural tube 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Genus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tube 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Differentia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neural tu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46483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41480" y="1752480"/>
            <a:ext cx="287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neural plate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4571640" y="2133720"/>
            <a:ext cx="1676520" cy="38088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 flipV="1">
            <a:off x="3657600" y="2133720"/>
            <a:ext cx="533520" cy="228600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 of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 biology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occurr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a kind of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ndependent continua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"/>
          <p:cNvSpPr/>
          <p:nvPr/>
        </p:nvSpPr>
        <p:spPr>
          <a:xfrm>
            <a:off x="6154200" y="3260880"/>
            <a:ext cx="29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cogene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92160" y="3048120"/>
            <a:ext cx="67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X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4040" y="5486400"/>
            <a:ext cx="388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 regener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3400" y="563868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2200" y="5500800"/>
            <a:ext cx="299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f nutr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-103680" y="5562720"/>
            <a:ext cx="148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Gill Sans"/>
              </a:rPr>
              <a:t>y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is 3 </a:t>
            </a:r>
            <a:r>
              <a:rPr b="0" lang="en-US" sz="4400" spc="-1" strike="noStrike">
                <a:solidFill>
                  <a:srgbClr val="ff0000"/>
                </a:solidFill>
                <a:latin typeface="Gill Sans"/>
              </a:rPr>
              <a:t>orthogon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Gill Sans"/>
              </a:rPr>
              <a:t>canonic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4400" spc="-1" strike="noStrike">
                <a:solidFill>
                  <a:srgbClr val="99cc00"/>
                </a:solidFill>
                <a:latin typeface="Gill Sans"/>
              </a:rPr>
              <a:t>species-neutral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ontologi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Molecular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core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iological Proces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e shared process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transcrip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cesses specific to organism types (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e.g.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in development, fly courtship behaviour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ellular componen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okaryotes and eukaryot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762120" y="152280"/>
          <a:ext cx="5876640" cy="655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5876640" cy="655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165800" y="271440"/>
            <a:ext cx="114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t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part_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4343400"/>
            <a:ext cx="320040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45720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472428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76520" y="48769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10552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5257800"/>
            <a:ext cx="1371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472428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38280" y="914400"/>
            <a:ext cx="91440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2514600"/>
            <a:ext cx="838080" cy="0"/>
          </a:xfrm>
          <a:prstGeom prst="line">
            <a:avLst/>
          </a:prstGeom>
          <a:ln w="2844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ranularity of the GO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04920" y="1981080"/>
          <a:ext cx="8153280" cy="4224600"/>
        </p:xfrm>
        <a:graphic>
          <a:graphicData uri="http://schemas.openxmlformats.org/drawingml/2006/table">
            <a:tbl>
              <a:tblPr/>
              <a:tblGrid>
                <a:gridCol w="2235240"/>
                <a:gridCol w="1973160"/>
                <a:gridCol w="1971720"/>
                <a:gridCol w="197316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Proc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ontinua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olec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(Sub?)Cell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Organism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GO-B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The GO </a:t>
            </a:r>
            <a:r>
              <a:rPr b="0" i="1" lang="en-US" sz="4400" spc="-1" strike="noStrike">
                <a:solidFill>
                  <a:srgbClr val="000000"/>
                </a:solidFill>
                <a:latin typeface="Gill Sans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 an ontology, with rich terminological feature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‘terms’ are actually representations of types (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aka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kinds, universals, class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actu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terms (i.e. the phrases used by biologists) are attached to the representations of types as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na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synonym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synonyms hav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linguistic relations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to the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exact, broad, narrow, related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istinct from ontological relations between GO types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  <a:p>
            <a:pPr lvl="3" marL="1375920" indent="-196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</a:rPr>
              <a:t>is_a, part_of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GO is moving to genus-differentia style defini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Many definitions are still dictionary-style, terminological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describe how the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term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used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Genus differentia definitions</a:t>
            </a:r>
            <a:endParaRPr b="0" lang="en-US" sz="4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2666880"/>
            <a:ext cx="5486400" cy="221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Gill Sans"/>
              </a:rPr>
              <a:t>central nervous system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ill Sans"/>
              </a:rPr>
              <a:t>Genus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morphogen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Gill Sans"/>
              </a:rPr>
              <a:t>Differentia</a:t>
            </a:r>
            <a:r>
              <a:rPr b="1" lang="en-US" sz="1600" spc="-1" strike="noStrike">
                <a:solidFill>
                  <a:srgbClr val="000000"/>
                </a:solidFill>
                <a:latin typeface="Gill Sans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has_outcome</a:t>
            </a:r>
            <a:r>
              <a:rPr b="0" lang="en-US" sz="1600" spc="-1" strike="noStrike">
                <a:solidFill>
                  <a:srgbClr val="000000"/>
                </a:solidFill>
                <a:latin typeface="Gill Sans"/>
              </a:rPr>
              <a:t> central nervous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The process by which the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anatomical structure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of the </a:t>
            </a:r>
            <a:r>
              <a:rPr b="0" i="1" lang="en-US" sz="1600" spc="-1" strike="noStrike" u="sng">
                <a:solidFill>
                  <a:srgbClr val="0000ff"/>
                </a:solidFill>
                <a:uFillTx/>
                <a:latin typeface="Gill Sans"/>
              </a:rPr>
              <a:t>central nervous system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is </a:t>
            </a:r>
            <a:r>
              <a:rPr b="0" i="1" lang="en-US" sz="1600" spc="-1" strike="noStrike">
                <a:solidFill>
                  <a:srgbClr val="ff0000"/>
                </a:solidFill>
                <a:latin typeface="Gill Sans"/>
              </a:rPr>
              <a:t>generated and organ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06:34:38Z</dcterms:created>
  <dc:creator>Chris Mungall</dc:creator>
  <dc:description/>
  <dc:language>en-US</dc:language>
  <cp:lastModifiedBy>Chris Mungall</cp:lastModifiedBy>
  <dcterms:modified xsi:type="dcterms:W3CDTF">2006-09-08T21:13:56Z</dcterms:modified>
  <cp:revision>670</cp:revision>
  <dc:subject/>
  <dc:title>Ontologies for biological annotation</dc:title>
</cp:coreProperties>
</file>